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863-6CFA-4108-A4CE-92183544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250-11E9-4567-8DDC-18CB1C0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E18-CBC7-41D1-B838-60A69E74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1DD-7233-4EBF-A0D9-BF35780D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25EB0-2122-4707-BE1D-2566137C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557D-A070-4F44-B83B-CF0701C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C4AA-BF4D-4C83-AFB4-351BD34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334A-F562-40FF-A09A-D5288672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A751-1048-41B5-9737-0F35B51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61655-7BC9-42D0-9643-08F061E3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5F590-5E62-47E6-8E3F-0DA4899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B9-F542-4C88-9117-4DEF4B7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C438D-D511-41B8-9A84-D1190BE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268B-21FC-4A25-8ACB-CD62D87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1656-402A-42D6-B4C7-462D6EE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9592E-F5EB-4506-A5A8-2AF6D074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85650-9420-4B14-BDF8-39B46453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7C4-78B2-4654-87EA-F3820E21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186-D425-4948-BC08-9C85942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05E-3352-41B2-AAB6-D758A63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7B7-1CAD-40A7-B3FA-EC03EAF5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08D-EDDB-4BF7-9BAC-B229158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A40-8F24-47E5-B16D-B481DE5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C48-E39D-4243-89C0-C076F6B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C445-F03F-4C2A-9337-FFFE130E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EDD9-030D-4BF1-8376-543486E88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rofessionalism in the workpl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tudents participating in the Shadowing Exter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91960"/>
            <a:ext cx="8305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ndatory: Copy and paste into a word document.  Print , sign and return to SC 13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ism Workshop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____________________________ clearly understand the terms and conditions of the Professionalism Workshop and will act accordingly during my shadowing Externship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What is professionalis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et of internalized character strengths and values directed toward high quality service to others through one’s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er-str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av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ure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solving 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enu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-groo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er at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eans, shorts, revealing tops, sleeveless tops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ys: slacks and polo/button-down shi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dies: slacks, skirts (knees or be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fortable closed toe dress shoes (no sneakers or sand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ubs may be ok, ask the Health care profes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id color, matching top and bot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onscious that your work reflects your inner charac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view it as just “a job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task-oriented and service-ori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 the exper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from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yourself and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out adv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onal 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other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boundaries/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meddle in others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goss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handle personal interests at “wor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drinking on the “job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foul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ff cell phones and p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-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UP ON TIME (Be Punct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enough time for traf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 e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immediately if you cannot make-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efficient use of resources and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 all dead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phone etiquet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ak with a normal, pleasant, courteous 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you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ve brief, clear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 phone calls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ersonal c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fidenti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atients, cases and files are to be kept strictly confidential if you have 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discuss patient status/well-being with others (friends, family, etc), especially at the health care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 ask about the confidentiality policies within the fac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discuss/reveal any diagnosis with the patients or family members…YOU ARE NOT THE HEALTH CARE PROVID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3:37:38Z</dcterms:created>
  <dc:creator>sgoldste</dc:creator>
  <dc:description/>
  <dc:language>en-US</dc:language>
  <cp:lastModifiedBy>Mike Niehoff</cp:lastModifiedBy>
  <dcterms:modified xsi:type="dcterms:W3CDTF">2009-07-07T01:16:07Z</dcterms:modified>
  <cp:revision>6</cp:revision>
  <dc:subject/>
  <dc:title>Professionalism in the workplace</dc:title>
</cp:coreProperties>
</file>